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7A8-70C6-4E5A-87DA-3F96D669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2FB-2EB6-4BCF-9B82-72BDDBEC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288-1209-4589-905E-DE702A0B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B92-2A70-466F-BE0C-FFAD9060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656E-DCA9-4BD6-BB73-BD47F468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718A-E3BD-4246-BFC7-08F086DB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E537-EEF9-4D8C-B102-C548E440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333E-E9C6-4036-8E4B-DDB6F850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C6B1-9657-43EE-8A7B-8591A5F1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FC3B-142F-4B35-8280-B21A1997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A923-0E68-4400-A9BB-8D172240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BC2-BED1-4A4C-9C43-87D711AA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1E83-F7CE-4330-9462-5EBE5405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B9E2-D1E3-44F1-8C18-0BA4C1CF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41F1-CFF8-4F85-B4B8-624AE462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CDCA-C63D-493B-A6D5-9E1C254C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A3F5-F0DC-4274-B358-C2117603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CD0-E590-4DC5-A111-DFFD6053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83C-F0FA-4FD0-96BA-C05E4362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5EA-445C-4B31-9CB7-DE8F3C9F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FB0-46C0-4280-8C49-699B66BD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074-EF65-4539-B78B-F01477AB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61B-F5C4-4617-8412-C06901BB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AC8-D14A-4133-9FD9-6F069D2D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1842-A643-4AAE-AD36-924A4B0576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1D4B-654D-4C7A-9FD3-2C7DA9C135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Electronic employee monitoring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55640" y="2349360"/>
            <a:ext cx="78487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dvantages of video survillanc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ving video surveillance is the fact that they can act as deterrents for bad behavior by the employe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camera can also act as motivators that encourage workers to perform to their best of abilit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Disadvantages of video surveillance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ployees do not want to under perform, so they are contanstly worrying about their performan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ystem can lead to higher stress levels for the employe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Social &amp; Ethical issues of Electronic employee monitoring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7240" y="1847880"/>
            <a:ext cx="79092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hazard of high-tech crime and difficulty of keeping data secure: Even though you trust the institution and monitoring the performance and data of employee, you can`t be sure that the datas will remain secure in the systems. Computer crime is at all time high,and law enforcement officials are having difficult time to keep it under contro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risks of failure of computer system: compter software is dificult to write,because it is incredibly complex. As result ,no computer system is completely fail saf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Reference articles relating to electronic monitoring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lobalization and the Technolog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ceret New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ten Best laptop bag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Types of monitoring systems in the workplac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846440"/>
            <a:ext cx="7921440" cy="30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uter monito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ll monitro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deo surveillance(video camer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braries may wish to adopt an electronic policy to limits the library`s liability for employee misconduct, such as using it`s E-mails to sexually harass another employe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brary may also wish to monitor their employee`s electronic communications to      verify that it`s electronic systems are being used for library Purposes and Are no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ing compromised by inapproprite personal use or by being made subject to    virus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dvantages of computer monitoring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y tracking the time spent on the computer,an employers will be able to evaluate an employee`s performance better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ith a clearer understanding of what employees needs to improve on,training,coaching can be given to the employee, which benefits the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f the employee takes longer time on keystrokes,the monitoring system will catch thi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Disadvantages of computer monitroing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ployee might not understand computer progra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ck of trust felt by the employe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loyee can become stessed by the fact that they`re constantly being monitroed, which will lead to decease in good customer servi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Call monitoring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13600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ll monitoring is “Listening to live phone calls and recoeding one`s observaions”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very employer keeps tabs on it`s employee. But increasingly ,companies want to know the details of how employees are spending their precious time when on the phone and onlin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mployer also want to know the emplyees communications &amp; activities on the job ,including their phone calls,  E-mails, Internet connections, computer fil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dvantages of call monitoring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1280" y="1931760"/>
            <a:ext cx="7921440" cy="33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ill resulting in high quality establish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mployees will know that they can be monitored at any time, so they will always try their b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ill, in turn, make the customers much happi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p management will have an easier time seeing how their company is perform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Disadvantages of call monitoring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ress that will be placed on the employees because of the knowledge that they could be watched at anytim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tress will affect the motivation of the workers, leading to decease in productivit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feeling of mistrust will also resulting in decrease motivation    &amp; productivit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Video surveillanc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deo surveillance is the viewing of employees through the use of various of video cameras place through the facilit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video cameras can either be placed in plain sight of the employees, or secretly hidde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7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7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7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8:13:05Z</dcterms:created>
  <dc:creator>微软用户</dc:creator>
  <dc:description/>
  <dc:language>en-US</dc:language>
  <cp:lastModifiedBy>jacoba_jpi</cp:lastModifiedBy>
  <dcterms:modified xsi:type="dcterms:W3CDTF">2008-03-04T09:37:59Z</dcterms:modified>
  <cp:revision>47</cp:revision>
  <dc:subject/>
  <dc:title>幻灯片 1</dc:title>
</cp:coreProperties>
</file>